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A23-003C-4747-9A23-180EC452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6BC-186A-4E27-B0F6-E02E494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3E6-9225-4A81-8FC9-02BBA39F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7BC-635E-4D93-85AA-237EDCDF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B1AB-A266-495D-AA40-A3224CA0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3C21-4DF6-4312-8DBB-F11FDC0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0F9B-B55F-4F82-940C-DDB02F5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B22-2809-4CD3-A24A-D033321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D232-EA4F-455C-B83A-299FB23B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55D-AD89-424C-AFFA-EA207214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2DF-647E-4A8B-80CF-9A0407B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4C8-9F96-460F-BFE3-7B01526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283-C5D7-4FED-95C5-BB911C1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398-737F-457E-80F9-09B1A3E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7838-7E0A-4233-BB5F-AC9E6050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9E33-76FF-4E95-8123-9FE2FE3D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6E33-13E3-48F5-9FA7-A1BF593E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4566-1A21-497F-B731-57748E69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BE79-7318-4821-9DBE-3ADC507E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0CF0-57BC-41C9-87C4-EC57E4B1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DCD8-F1D7-48EC-AFF5-1F8FCDA4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91BE-9EC1-4A4F-B141-4C2B3D1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48A-76EA-4680-85CB-824C57FE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CCD1-D95F-4131-BCC6-8F0F7706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1467-CD4E-40DE-9DE8-41BAEBD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9045-A213-4931-94A3-B9F467E8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03F6-9644-4C55-B314-AD2019D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606F-5026-4FDF-A9D5-1F00F04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89B2-D33F-468E-A7B9-9D381395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1080-DF2E-4442-B38D-C58054A1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A61F-EB96-4895-ACC8-7CC9B508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4E59-60B9-4E43-AAF1-AC92241E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E38E-CB9D-409C-8A87-A2B284D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16A-5DE4-4889-BBA7-5D83B895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4A56-05E0-487B-BC17-13F44CF7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6CBA-11FA-4C0C-89C3-ED16A5AC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A878-FBD0-4258-B941-FADF06F0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AE8A-6231-4831-BCA3-EE5667B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E284-3E77-49C7-B31F-6BA50BFC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73741-538C-48C0-AA5D-A5B3229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4234-9C90-49E1-8BE6-B14E2A4D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5AF2-7368-4746-8B14-4B2CCD03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3B29-1EFD-41C5-8046-A1193BB6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635-5CE5-4D96-B002-CDBFF29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C77-C250-49FA-8CD3-56D189C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42A-FD08-44B7-9CF4-EA22A328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9FA-FC7A-4397-BD8A-D71B364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FBC-6CE9-4028-9C57-1B45F9D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FFE6-F10F-466B-8713-47C7C74ECF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071F-F199-47F1-B9E1-F2357D28A4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BCDD-F88D-44B6-B345-24C772C079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8C1A-F33D-46B6-AE57-68267895DA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50720" y="1060560"/>
            <a:ext cx="82425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International Classification of Functioning, Disability and Health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(ICF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ђународна класификација функционисања, неспособности и здравља представља биопсихосоцијални модел класификације развијен са циљем ефикаснијег и комплетнијег сагледавања проблема здравља и функционисања индивидуе у спољашњем окружењ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8cca"/>
                </a:solidFill>
                <a:latin typeface="Calibri"/>
              </a:rPr>
              <a:t>ФУНКЦИОНАЛНА</a:t>
            </a:r>
            <a:r>
              <a:rPr b="1" lang="en-US" sz="44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8cca"/>
                </a:solidFill>
                <a:latin typeface="Calibri"/>
              </a:rPr>
              <a:t>ЕВАЛУА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160" y="1599840"/>
            <a:ext cx="8248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Функционална евалуација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је сваки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 с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стематски покушај да се процени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физичко здравље, интелектуални и емоционални статус, социјални проблеми у радној средини и друштвеном окружењ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роцена треба да је свеобухватна, једноставна, стандардизована, опште прихваћена и подобна за медицинску документациј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8cca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ноги покушаји су довели до развоја великог броја општих инструмената за праћење функционалних спос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ности болесника, а тако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 и до уско специјализованих тестова за поједине болести и поремећај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 циљу израде ових мерних инструмената у физикалној медицини и рехабилитацији ангажовани су читави медицински тимови како би се болесник сагледао не само са аспек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физичког обољењ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его као комплетне личности водећи рачуна о његов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ментално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оцијалном стату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8cca"/>
                </a:solidFill>
                <a:latin typeface="Calibri"/>
              </a:rPr>
              <a:t>МЕРНИ ИНСТРУМЕНТ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34600" y="1447560"/>
            <a:ext cx="7556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estovi motornog oštećenj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Fugl-Meyer, Rivermead Motor Assesment, Motoricity Index i dr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estovi funkcionalne sposobnosti ili nesposobnosti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Rivermead Mobility Index, Barthel Index, Functional Indipendence Measure i d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Kongnitivni tetsovi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Glasgov Coma Scale, Glasgov Outcoma Scale i dr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estovi socijalne integracije i ekonomske nezavisnosti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mmunity Integrationb Questionaire, Craig Handicap Assesment and Reporting Technique i d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estovi procene bolnih stanj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(VAS scala, Numerical Rating Scale, McGill Questionaire i d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3" descr=""/>
          <p:cNvPicPr/>
          <p:nvPr/>
        </p:nvPicPr>
        <p:blipFill>
          <a:blip r:embed="rId1"/>
          <a:stretch/>
        </p:blipFill>
        <p:spPr>
          <a:xfrm>
            <a:off x="353880" y="566640"/>
            <a:ext cx="8826480" cy="3633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8cca"/>
                </a:solidFill>
                <a:latin typeface="Calibri"/>
              </a:rPr>
              <a:t>WHO ICIDH (1980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hology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airmen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ВАЛИДНОСТ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ability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ЕНДИКЕП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b8d"/>
                </a:solidFill>
                <a:latin typeface="Calibri"/>
              </a:rPr>
              <a:t>СЗО је 1980. године и ревизијом 1993. године дала јасну дефиницију појмова оштећења, онеспособљености и хендикепа и процес настанка инвалидности представила следећим моделом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240" y="2361960"/>
            <a:ext cx="8915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11360" indent="-711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ај модел узима у обзир три ниво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11360" indent="-71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. ниво орган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оштећење као последица болести или повред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11360" indent="-71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ниво особе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инвалидност или онеспособљеност у извођењу неке активности) 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11360" indent="-71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ниво друштв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хендикеп или ограничење које појединац показује у својој животној средин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Подручје</a:t>
            </a:r>
            <a:r>
              <a:rPr b="0" lang="hr-HR" sz="4500" spc="-1" strike="noStrike">
                <a:solidFill>
                  <a:srgbClr val="006b8d"/>
                </a:solidFill>
                <a:latin typeface="Calibri"/>
              </a:rPr>
              <a:t> </a:t>
            </a: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и</a:t>
            </a:r>
            <a:r>
              <a:rPr b="0" lang="hr-HR" sz="4500" spc="-1" strike="noStrike">
                <a:solidFill>
                  <a:srgbClr val="006b8d"/>
                </a:solidFill>
                <a:latin typeface="Calibri"/>
              </a:rPr>
              <a:t> </a:t>
            </a: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начин</a:t>
            </a:r>
            <a:r>
              <a:rPr b="0" lang="hr-HR" sz="4500" spc="-1" strike="noStrike">
                <a:solidFill>
                  <a:srgbClr val="006b8d"/>
                </a:solidFill>
                <a:latin typeface="Calibri"/>
              </a:rPr>
              <a:t> </a:t>
            </a: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презентациј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МКФ складишти информације у два де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Constantia"/>
              </a:rPr>
              <a:t>Први део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се бави функционисањем и инвалидитетом – дакле телесним структурама и функцијама те активностима и бављ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Constantia"/>
              </a:rPr>
              <a:t>Други део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покрива контекстуалне чиниоце – средине и лич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6b8d"/>
                </a:solidFill>
                <a:latin typeface="Calibri"/>
              </a:rPr>
              <a:t>Подручје</a:t>
            </a:r>
            <a:r>
              <a:rPr b="1" lang="hr-HR" sz="4000" spc="-1" strike="noStrike">
                <a:solidFill>
                  <a:srgbClr val="006b8d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6b8d"/>
                </a:solidFill>
                <a:latin typeface="Calibri"/>
              </a:rPr>
              <a:t>и</a:t>
            </a:r>
            <a:r>
              <a:rPr b="1" lang="hr-HR" sz="4000" spc="-1" strike="noStrike">
                <a:solidFill>
                  <a:srgbClr val="006b8d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6b8d"/>
                </a:solidFill>
                <a:latin typeface="Calibri"/>
              </a:rPr>
              <a:t>начин</a:t>
            </a:r>
            <a:r>
              <a:rPr b="1" lang="hr-HR" sz="4000" spc="-1" strike="noStrike">
                <a:solidFill>
                  <a:srgbClr val="006b8d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6b8d"/>
                </a:solidFill>
                <a:latin typeface="Calibri"/>
              </a:rPr>
              <a:t>презент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240" y="15998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Класификациј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корист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алфанумеричк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систем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означавањ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ентите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2480" indent="-369720"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81200" indent="-2541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Прво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наводи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једно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д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ледећих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20240" indent="-171720">
              <a:spcBef>
                <a:spcPts val="451"/>
              </a:spcBef>
              <a:buClr>
                <a:srgbClr val="0bd0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б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означава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телесне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функциј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20240" indent="-171720">
              <a:spcBef>
                <a:spcPts val="451"/>
              </a:spcBef>
              <a:buClr>
                <a:srgbClr val="0bd0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означава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телесне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структу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20240" indent="-171720">
              <a:spcBef>
                <a:spcPts val="451"/>
              </a:spcBef>
              <a:buClr>
                <a:srgbClr val="0bd0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означава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активности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деловањ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20240" indent="-171720">
              <a:spcBef>
                <a:spcPts val="451"/>
              </a:spcBef>
              <a:buClr>
                <a:srgbClr val="0bd0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- 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означава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спољне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услове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утицај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20240" indent="-171720">
              <a:spcBef>
                <a:spcPts val="451"/>
              </a:spcBef>
              <a:buClr>
                <a:srgbClr val="0bd0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81200" indent="-2541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Након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једног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д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вих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лов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леди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нумерички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код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децималном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блику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који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астоји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д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редног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број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поглављ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један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број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),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знак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поремећај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дв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знак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81200" indent="-2541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Након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децималн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тачк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долаз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једн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до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дв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одредниц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 -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једн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знаменк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свака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које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употпуњују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МКФ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nstantia"/>
              </a:rPr>
              <a:t>к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81200" indent="-2541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б- телесне функциј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Телесне функциј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  физиолошке функције телесних система (укључујући и психолошке функције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Менталне функ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ензорне функције и бо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Гласовне и говорне функ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Функције кардиоваскуларног, хематолошког, имунолошког и респираторног сист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Функције  дигестивног метаболичког и ендокриног суста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Функције гениторуинарног и репродуктивног сист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7. Неуромускулоскелетне и функције везане уз крета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8. Функције коже и сродних струк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b8d"/>
                </a:solidFill>
                <a:latin typeface="Calibri"/>
              </a:rPr>
              <a:t>Предмет носи 6 ЕСПБ бодов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37720" y="19807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часа предавања и 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ас вежб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иљ је оспособљавање студената да теоријски и практично овладају основама процене функционалне и моторичке способности у рехабилитац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с- телесне структур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998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Телесне структур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 анатомски делови тела као што су органи, екстремитети и  њихове компонент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Структуре  нервног сист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Око, уво и повезане структу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Структуре везане за глас и гов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Структуре кардиоваскуларног, имунолошког и респираторног сист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Структуре  дигестивног, метаболичког и ендокриног сист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Структуре генитоуринарног и репродуктивног  сист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7. Структуре везане уз крета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8. Кожа и повезане структу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д – активност и партиципа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121896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Активнос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је извршење задатка или радње од стране појединц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артиципациј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ли учествовање је укљученост у животне ситуациј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ње и коришћење знањ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шти зада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билн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рига о себ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вот у породи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ак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лика (значајна) животна пољ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једница социјални живо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е – фактори околин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актори окружењ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ине физичка, социјална и окружења ставова у којима људи живе и воде своје живот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хнолошки продукти (лекови, продукти за дневни живот, за транспорт, за комуникациј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родна околина (физичка географија, ваздух, светло, ресурс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колина породица, професионална и социјална окол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авови (очекивањ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рв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cca"/>
                </a:solidFill>
                <a:latin typeface="Calibri"/>
              </a:rPr>
              <a:t>Непостојање оштећења (према унапред одређеном нивоу прага) означава се вредношћу ≪0≫ за генерички квалифи катор </a:t>
            </a:r>
            <a:br>
              <a:rPr sz="2400"/>
            </a:br>
            <a:r>
              <a:rPr b="0" lang="ru-RU" sz="2400" spc="-1" strike="noStrike">
                <a:solidFill>
                  <a:srgbClr val="008cca"/>
                </a:solidFill>
                <a:latin typeface="Calibri"/>
              </a:rPr>
              <a:t>На пример: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05120"/>
          <a:ext cx="8763120" cy="4572000"/>
        </p:xfrm>
        <a:graphic>
          <a:graphicData uri="http://schemas.openxmlformats.org/drawingml/2006/table">
            <a:tbl>
              <a:tblPr/>
              <a:tblGrid>
                <a:gridCol w="2651040"/>
                <a:gridCol w="3460680"/>
                <a:gridCol w="2651400"/>
              </a:tblGrid>
              <a:tr h="642960">
                <a:tc>
                  <a:txBody>
                    <a:bodyPr lIns="100440" rIns="1004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ви квалификато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личина оштећењ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100440" rIns="1004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уги квалификато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рода оштећењ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100440" rIns="1004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рећи квалификато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сто оштећењ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29040">
                <a:tc>
                  <a:txBody>
                    <a:bodyPr lIns="100440" rIns="1004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НЕМА оштећењ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БЛАГО оштећењ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УМЕРЕНО оштећењ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ЈАКО оштећењ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ПОТПУНО оштећењ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неспецифич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није применљи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100440" rIns="1004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нема промена у структур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потпуни изостана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делимични изостана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додатни де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поремећене димензиј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дисконтинуит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одступање од положа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квалитативне промене 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уктури и накупљању теч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неспецифич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није применљиво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100440" rIns="1004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више од једне региј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дес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ле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обе стран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напре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позад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проксимал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дистал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неспецифич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није применљи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Кад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стој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штећењ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,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но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мож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мерит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тежин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уз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моћ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генеричког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квалификатора</a:t>
            </a:r>
            <a:br>
              <a:rPr sz="2800"/>
            </a:b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имер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523880"/>
            <a:ext cx="861048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302.1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БЛАГО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наг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дно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5.24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302.2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МЕРЕНО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наг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дно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25-49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7302.3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ЈАКО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наге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дној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ла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 (50-95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302.4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ПОТПУНО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наг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дно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96-10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3203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епостојање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штећења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ема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унапред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дређеном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ивоу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ага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)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значава</a:t>
            </a:r>
            <a:r>
              <a:rPr b="1" lang="vi-VN" sz="2800" spc="-1" strike="noStrike">
                <a:solidFill>
                  <a:srgbClr val="008cca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е вредношћ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≪0≫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з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генеричк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квалификатор</a:t>
            </a:r>
            <a:br>
              <a:rPr sz="2800"/>
            </a:b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имер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34960" y="3357720"/>
            <a:ext cx="749952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302.0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НЕМА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наг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једно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те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943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500" spc="-1" strike="noStrike">
                <a:solidFill>
                  <a:srgbClr val="008cca"/>
                </a:solidFill>
                <a:latin typeface="Calibri"/>
              </a:rPr>
              <a:t>Нацрти Бета-1 и Бета-2</a:t>
            </a:r>
            <a:r>
              <a:rPr b="1" lang="sv-SE" sz="4500" spc="-1" strike="noStrike">
                <a:solidFill>
                  <a:srgbClr val="008cca"/>
                </a:solidFill>
                <a:latin typeface="Calibri"/>
              </a:rPr>
              <a:t> ICIDH-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66320" y="220968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 марту 1997. је предложен нацрт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Бета-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које је интегрисао предлоге 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прикупљене у претходним годинам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Тај је нацрт представљен на састанку з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ревизију </a:t>
            </a:r>
            <a:r>
              <a:rPr b="1" lang="sv-SE" sz="2400" spc="-1" strike="noStrike">
                <a:solidFill>
                  <a:srgbClr val="008cca"/>
                </a:solidFill>
                <a:latin typeface="Constantia"/>
              </a:rPr>
              <a:t>ICIDH-2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 априлу 1997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акон што је укључен у одлуке састанка, нацрт Бета-1 </a:t>
            </a:r>
            <a:r>
              <a:rPr b="1" lang="sv-SE" sz="2400" spc="-1" strike="noStrike">
                <a:solidFill>
                  <a:srgbClr val="008cca"/>
                </a:solidFill>
                <a:latin typeface="Constantia"/>
              </a:rPr>
              <a:t>ICIDH-2 </a:t>
            </a:r>
            <a:r>
              <a:rPr b="1" lang="sr-RS" sz="2400" spc="-1" strike="noStrike">
                <a:solidFill>
                  <a:srgbClr val="008cc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бјављен је за теренска истаживања у јуну 1997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Пример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13920" y="1071360"/>
            <a:ext cx="7858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onstantia"/>
              </a:rPr>
              <a:t>б168.3 </a:t>
            </a:r>
            <a:r>
              <a:rPr b="0" i="1" lang="hr-HR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тешко оштећење специфичних менталних функција јез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onstantia"/>
              </a:rPr>
              <a:t>б –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onstantia"/>
              </a:rPr>
              <a:t>поремећај телесне функ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nstantia"/>
              </a:rPr>
              <a:t>1 –</a:t>
            </a:r>
            <a:r>
              <a:rPr b="1" i="1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прво поглавље класификације поремећаја телесних функција –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менталне функ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nstantia"/>
              </a:rPr>
              <a:t>68 –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или боље речено </a:t>
            </a:r>
            <a:r>
              <a:rPr b="0" i="1" lang="hr-HR" sz="2400" spc="-1" strike="noStrike">
                <a:solidFill>
                  <a:srgbClr val="000000"/>
                </a:solidFill>
                <a:latin typeface="Constantia"/>
              </a:rPr>
              <a:t>168,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означава специфичне менталне функције јез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nstantia"/>
              </a:rPr>
              <a:t>.3 –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одредница  - одређује степен оштећења, у овом случају – тешко оштећ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388520" indent="-19872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i="1" lang="hr-HR" sz="2000" spc="-1" strike="noStrike">
                <a:solidFill>
                  <a:srgbClr val="000000"/>
                </a:solidFill>
                <a:latin typeface="Constantia"/>
              </a:rPr>
              <a:t>0 – без оштећењ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388520" indent="-19872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nstantia"/>
              </a:rPr>
              <a:t>.1 – благо оштеће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388520" indent="-19872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nstantia"/>
              </a:rPr>
              <a:t>.2 – умерено оштеће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388520" indent="-19872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nstantia"/>
              </a:rPr>
              <a:t>.3 – тешко оштеће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388520" indent="-19872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onstantia"/>
              </a:rPr>
              <a:t>.4 – потпуно оштећење – губитак функц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8cca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x.0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икакв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дсутн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занемарив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...) 0-4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x.1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БЛАГ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благ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слаб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...) 5-24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x.2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МЕРЕН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средње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поприличн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...) 25-4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x.3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ТЕШК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елик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екстремно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...) 50-9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nstantia"/>
              </a:rPr>
              <a:t>xxx.4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МПЛЕТНО</a:t>
            </a:r>
            <a:r>
              <a:rPr b="1" lang="pl-P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1" lang="pl-PL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тотално</a:t>
            </a:r>
            <a:r>
              <a:rPr b="1" lang="pl-PL" sz="2400" spc="-1" strike="noStrike">
                <a:solidFill>
                  <a:srgbClr val="000000"/>
                </a:solidFill>
                <a:latin typeface="Constantia"/>
              </a:rPr>
              <a:t>,...) 96-10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x.8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ије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специфи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цира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x.9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ије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примењив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Пример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00080" y="1285560"/>
            <a:ext cx="80726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i="1" lang="hr-HR" sz="3200" spc="-1" strike="noStrike">
                <a:solidFill>
                  <a:srgbClr val="000000"/>
                </a:solidFill>
                <a:latin typeface="Constantia"/>
              </a:rPr>
              <a:t>730.32</a:t>
            </a:r>
            <a:r>
              <a:rPr b="0" i="1" lang="hr-HR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шко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орњег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екстремитет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з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еломичан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едостатак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укту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i="1" lang="hr-HR" sz="21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поремећај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телесних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структура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100" spc="-1" strike="noStrike">
                <a:solidFill>
                  <a:srgbClr val="000000"/>
                </a:solidFill>
                <a:latin typeface="Constantia"/>
              </a:rPr>
              <a:t>7 –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седмо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поглавље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овог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подручја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структуре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везане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уз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кретањ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100" spc="-1" strike="noStrike">
                <a:solidFill>
                  <a:srgbClr val="000000"/>
                </a:solidFill>
                <a:latin typeface="Constantia"/>
              </a:rPr>
              <a:t>(7)30 –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структура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горњег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екстремитета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100" spc="-1" strike="noStrike">
                <a:solidFill>
                  <a:srgbClr val="000000"/>
                </a:solidFill>
                <a:latin typeface="Constantia"/>
              </a:rPr>
              <a:t>.3 –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тешко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оштећење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одреднице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исто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раније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096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100" spc="-1" strike="noStrike">
                <a:solidFill>
                  <a:srgbClr val="000000"/>
                </a:solidFill>
                <a:latin typeface="Constantia"/>
              </a:rPr>
              <a:t>.x2 –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делимичан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недостатак</a:t>
            </a:r>
            <a:r>
              <a:rPr b="0" lang="hr-HR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структур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b8d"/>
                </a:solidFill>
                <a:latin typeface="Calibri"/>
              </a:rPr>
              <a:t>Програм обухв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е функционалне и моторичке тестов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ICDI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асификацију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уторизоване евалуационе тестов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792440" y="533520"/>
          <a:ext cx="7351560" cy="5864040"/>
        </p:xfrm>
        <a:graphic>
          <a:graphicData uri="http://schemas.openxmlformats.org/drawingml/2006/table">
            <a:tbl>
              <a:tblPr/>
              <a:tblGrid>
                <a:gridCol w="2450880"/>
                <a:gridCol w="2449440"/>
                <a:gridCol w="2451240"/>
              </a:tblGrid>
              <a:tr h="49356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zioterapeutska proc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IDH - gradacija onesposbljenosti kret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mer kodiranja hod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93920">
                <a:tc>
                  <a:txBody>
                    <a:bodyPr lIns="35640" rIns="35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a onesposoblje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rowSpan="5"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 x.x- oneposobljenost hodanja po ravn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x.x. onesposobljenost savladjivanja stepe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18960">
                <a:tc>
                  <a:txBody>
                    <a:bodyPr lIns="35640" rIns="35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škoće kod izvodje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odjenje uz pomoć pomag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320">
                <a:tc>
                  <a:txBody>
                    <a:bodyPr lIns="35640" rIns="35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 x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odjenje uz podrš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odjenje uz pomoć jedne oso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35640" rIns="35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 stepen nesposobnosti (potrebna pomoć druge osobe ili specijalna pomaga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puna nesposob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35640" rIns="35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.x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pen onesposobljenosti nije bliže odredj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68680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имер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1.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ацијент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хемипарезом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десно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,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казуј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тежан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ход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уз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моћ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магал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(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штап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)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тежано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влађивањ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тепениц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уз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моћ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друг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соб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2928960"/>
          <a:ext cx="8186760" cy="2481120"/>
        </p:xfrm>
        <a:graphic>
          <a:graphicData uri="http://schemas.openxmlformats.org/drawingml/2006/table">
            <a:tbl>
              <a:tblPr/>
              <a:tblGrid>
                <a:gridCol w="3898800"/>
                <a:gridCol w="1559160"/>
                <a:gridCol w="2728800"/>
              </a:tblGrid>
              <a:tr h="146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еспособље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хода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савлађивања степениш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1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ID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рапеутска про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x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x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имер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2.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ацијент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хемипарезом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десно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гд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метен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окрет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рамен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шак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(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индром раме-шак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). </a:t>
            </a:r>
            <a:br>
              <a:rPr sz="2800"/>
            </a:b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ацијент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ем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метњ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код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ходањ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влађивањ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тепениц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0880" y="2928960"/>
          <a:ext cx="8263080" cy="3700440"/>
        </p:xfrm>
        <a:graphic>
          <a:graphicData uri="http://schemas.openxmlformats.org/drawingml/2006/table">
            <a:tbl>
              <a:tblPr/>
              <a:tblGrid>
                <a:gridCol w="3935520"/>
                <a:gridCol w="1573200"/>
                <a:gridCol w="2754360"/>
              </a:tblGrid>
              <a:tr h="183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еспособљено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ходањ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влађивање степе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86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ID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утска про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x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x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имер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3.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ацијент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акон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ампутациј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ог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.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ацијент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ј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збринут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отезом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ал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још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увек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иј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владао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енос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тежин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штећен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ног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им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трах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од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ад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. </a:t>
            </a:r>
            <a:br>
              <a:rPr sz="2800"/>
            </a:b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ем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физиотерапеутској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процен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раврстан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ј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груп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III (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ходањ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)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групу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IV (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авлађивање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8cca"/>
                </a:solidFill>
                <a:latin typeface="Calibri"/>
              </a:rPr>
              <a:t>степеница</a:t>
            </a:r>
            <a:r>
              <a:rPr b="1" lang="en-US" sz="2800" spc="-1" strike="noStrike">
                <a:solidFill>
                  <a:srgbClr val="008cca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80880" y="3505320"/>
          <a:ext cx="8439120" cy="2585880"/>
        </p:xfrm>
        <a:graphic>
          <a:graphicData uri="http://schemas.openxmlformats.org/drawingml/2006/table">
            <a:tbl>
              <a:tblPr/>
              <a:tblGrid>
                <a:gridCol w="4019760"/>
                <a:gridCol w="1606320"/>
                <a:gridCol w="2813040"/>
              </a:tblGrid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еспособљено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хода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влађивање степе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ID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zioterapeutska proc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x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x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500" spc="-1" strike="noStrike">
                <a:solidFill>
                  <a:srgbClr val="006b8d"/>
                </a:solidFill>
                <a:latin typeface="Calibri"/>
              </a:rPr>
              <a:t>Закључа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7200" y="1214280"/>
            <a:ext cx="77090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КФ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лужбено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тврђена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вих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191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држав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чланиц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ЗО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еђународни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тандард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писивањ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дравља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валидите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орисна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дравствен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радник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соб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валидитетом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конодавц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дравствен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ланере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могућа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дноставну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вантификацију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убитк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дуктивност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валидите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дноставно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аћење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цену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спешност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хабилитационих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тервентних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гра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лакшав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еђународну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азмену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датак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пшт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андардн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зик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пис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дрављ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дрављу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родних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ања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 u="sng">
                <a:solidFill>
                  <a:srgbClr val="000000"/>
                </a:solidFill>
                <a:uFillTx/>
                <a:latin typeface="Calibri"/>
              </a:rPr>
              <a:t>ИЗРАДА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3600" spc="-1" strike="noStrike" u="sng">
                <a:solidFill>
                  <a:srgbClr val="000000"/>
                </a:solidFill>
                <a:uFillTx/>
                <a:latin typeface="Calibri"/>
              </a:rPr>
              <a:t>ПЛАНА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36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Е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3600" spc="-1" strike="noStrike" u="sng">
                <a:solidFill>
                  <a:srgbClr val="000000"/>
                </a:solidFill>
                <a:uFillTx/>
                <a:latin typeface="Calibri"/>
              </a:rPr>
              <a:t>РЕХАБИЛИТАЦИЈ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Анамне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Физикални прегле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валуација функција локомоторног апара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Оцена психосоцијалних могућ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17398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497240" y="3357720"/>
            <a:ext cx="6851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Arial"/>
              </a:rPr>
              <a:t>ХВАЛА НА ПАЖЊИ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6b8d"/>
                </a:solidFill>
                <a:latin typeface="Calibri"/>
              </a:rPr>
              <a:t>Исход предме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Способност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самосталан рад у оквиру евалуационих методологија за процену моторичке и функционалне способности пацијената у област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урологије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реуматологије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ауматологије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педијатрије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пулмологије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кардиологије и др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6b8d"/>
                </a:solidFill>
                <a:latin typeface="Calibri"/>
              </a:rPr>
              <a:t>Моду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МОДУЛ 1- ICDIH КЛАСИФИКАЦИЈА (1) 0,2 ЕСП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МОДУЛ 2- БАЗИЧНИ ЕВАЛУАЦИОНИ ТЕСТОВИ У РЕХАБИЛИТАЦИЈИ (1, 2) 0,4 ЕСП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МОДУЛ 3- ЕВАЛУАЦИОНИ ТЕСТОВИ КОД НЕУРОЛОШКИХ ОБОЉЕЊА (1,2,3,4,5) 1 ЕСП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МОДУЛ 4 – ЕВАЛУАЦИОНИ ТЕСТОВИ У РЕУМАТОЛОГИЈИ (1,2,) 0,4 ЕСП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МОДУЛ 5 – ЕВАЛУАЦИОНИ ТЕСТОВИ КОД ПОСТТРАУМАТСКИХ И ОРТОПЕДСКИХ БОЛЕСНИКА (1,2,3,4,5) 1 ЕСП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b8d"/>
                </a:solidFill>
                <a:latin typeface="Calibri"/>
              </a:rPr>
              <a:t>Начин полагања испита и оцењивањ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"/>
          <p:cNvPicPr/>
          <p:nvPr/>
        </p:nvPicPr>
        <p:blipFill>
          <a:blip r:embed="rId1"/>
          <a:stretch/>
        </p:blipFill>
        <p:spPr>
          <a:xfrm>
            <a:off x="384120" y="1835280"/>
            <a:ext cx="83757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228600" y="380880"/>
            <a:ext cx="8686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ветска</a:t>
            </a:r>
            <a:r>
              <a:rPr b="1" lang="vi-V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дравствена</a:t>
            </a:r>
            <a:r>
              <a:rPr b="1" lang="vi-V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ја</a:t>
            </a:r>
            <a:r>
              <a:rPr b="1" lang="vi-VN" sz="28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ЗО</a:t>
            </a:r>
            <a:r>
              <a:rPr b="1" lang="vi-VN" sz="28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бликовал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народн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ификаци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нутн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треб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f6fc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Међународну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класификацију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болести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и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сродних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здравствених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проблема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МКБ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-10,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рев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. 2007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f6fc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Међународну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класификацију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функционисања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онеспособљења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и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здравља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f6fc6"/>
                </a:solidFill>
                <a:latin typeface="Arial"/>
              </a:rPr>
              <a:t>ICF</a:t>
            </a:r>
            <a:r>
              <a:rPr b="1" lang="vi-VN" sz="2400" spc="-1" strike="noStrike">
                <a:solidFill>
                  <a:srgbClr val="0f6fc6"/>
                </a:solidFill>
                <a:latin typeface="Arial"/>
              </a:rPr>
              <a:t>, 2001.) </a:t>
            </a:r>
            <a:r>
              <a:rPr b="0" lang="vi-VN" sz="24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КБ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јерархијск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ификациј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еда , тако да је посебно користе лекари 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инисањ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рапеутима</a:t>
            </a:r>
            <a:r>
              <a:rPr b="1" lang="vi-V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је</a:t>
            </a:r>
            <a:r>
              <a:rPr b="1" lang="vi-V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лискија</a:t>
            </a:r>
            <a:r>
              <a:rPr b="1" lang="vi-V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CF</a:t>
            </a:r>
            <a:r>
              <a:rPr b="1" lang="vi-V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ласификација</a:t>
            </a:r>
            <a:r>
              <a:rPr b="1" lang="vi-V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у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единц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ени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Функционална евалуа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Представља сваки покушај да се процен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физичко здравље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нтелектуални и емоционални статус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социјални проблеми у радној средини и друштвеном окружењ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Процена треба да је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свеобухватн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једноставн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стандардизован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пште прихваћена 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добна за медицинску документациј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6212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980. године СЗО је створила међународну класификацију која прецизно дефинише оштећења, онеспособљености и хендикеп: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CIDH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International Classification of Impairments, Disabilities and Handicap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2001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године усвојена је најновија верзија под новим именом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CF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International Classification of Functioning, Disability and Health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дносно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МК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Међународна класификација функционисања, онеспособљења и здрављ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ight Arrow 3"/>
          <p:cNvSpPr/>
          <p:nvPr/>
        </p:nvSpPr>
        <p:spPr>
          <a:xfrm>
            <a:off x="0" y="9144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ight Arrow 4"/>
          <p:cNvSpPr/>
          <p:nvPr/>
        </p:nvSpPr>
        <p:spPr>
          <a:xfrm>
            <a:off x="0" y="37339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8:52:30Z</dcterms:created>
  <dc:creator>Veljkovic Miodrag</dc:creator>
  <dc:description/>
  <dc:language>en-US</dc:language>
  <cp:lastModifiedBy>Windows User</cp:lastModifiedBy>
  <dcterms:modified xsi:type="dcterms:W3CDTF">2020-02-12T08:58:43Z</dcterms:modified>
  <cp:revision>135</cp:revision>
  <dc:subject/>
  <dc:title>MEDICINSKA REHABILITACIJA</dc:title>
</cp:coreProperties>
</file>